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6F8-B706-48E8-B7C7-4277A61D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0AE-34D7-409C-9A59-A55CAD3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347-B99E-48A4-9D18-ADCFAC20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1E4-2C1B-4F0F-939C-16BB69C1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F2708-DA96-43FA-A9F7-B294E50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746B1-B616-4A62-947C-52A5CD21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CA31A-3FFC-4126-98C5-EAF0B78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5191-7241-4659-852F-742DA61B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F7F46-838A-49A9-965E-DBDBF423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A133-2691-4D79-B5D1-245B600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8B618-3967-4EE3-AA30-CAB41A5A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EA3-35B6-4360-92B9-327C270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A1E14-7A23-4639-923F-3FD258D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18F69-7467-4504-9DD2-0B09D8A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2284B-3B33-4AF4-BA0B-13736DD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18F6-D235-47DD-8CE8-8D463748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3C3A-588E-4500-919A-B6AA2274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5E50-569E-43E7-9900-5DAD2F98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5BC3D-4BED-4050-9986-A0E76254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FA54-0579-493E-B2AA-81E01A3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A6B2-80DE-4441-86E4-DF8475B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38F1-7054-41C1-B8CB-3B6A182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68E-ECAC-4C21-9994-B73B4EE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A176-5233-40CB-8535-62926FE5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DDDA-2AF5-4195-B7ED-77AA0C3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8FE7-63FA-4CAD-83FA-67303C1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80059-7C82-42CF-A3F0-1DDF578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EA73-F47C-4C1D-AB7C-8669AA2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D4BC6-ADB5-47FF-A16F-09FCEE79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198F-B62A-4B3D-8883-655C288A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A67-9A57-425E-8B56-B860F0A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1D0-6F22-4E98-A169-1217C75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F5F-4B24-4153-8652-3C46FDC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2C8-ECEE-4509-84A3-C27A657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4D8-C322-4F86-8D56-B8204C9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149-D963-4B15-85BB-BB806BA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977B-77EB-478F-B6D9-62779E4FC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CF43-A3DC-47AF-8573-4C884BDDD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C50-06C8-47F6-BBC2-5A7B48E5D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реработка нефти в Казахстан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Казахстане функционируют три нефтеперерабатывающих завода общей мощностью 18 млн. тонн нефти в г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О "Атырауский НПЗ" (АНПЗ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О "Павлодарский нефтехимический завод" (ПНХ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О "Шымкентнефтеоргсинтез" (ШНО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расположение нефтеперерабатывающих за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1816200"/>
            <a:ext cx="6769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ечными продуктами нефтепереработки являютс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тяные топлива: бензин марок А-76, А-80, А-85, АИ-91-93, АИ-9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зельное топли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ельное топливо (мазут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иационный и осветительный керос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ное топли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жиженный газ и другие нефте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о бензинов и дизельного топлива, производимых казахстанскими НПЗ, ниже, чем у большинства их российских аналогов и не соответствует мировым стандар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добычи и переработки нефти в Казахстане 1991-2001 года (в миллионах тонн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842160" cy="3567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04320" y="5300280"/>
            <a:ext cx="74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Добыча нефти с учетом газового конденс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ная добыча нефти в 2001 году = 35,5 млн. тон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ная добыча газового конденсата в 2001 году = 4,4 млн.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ынка нефтепроду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349280"/>
            <a:ext cx="51134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1:05:00Z</dcterms:created>
  <dc:creator>User</dc:creator>
  <dc:description/>
  <dc:language>en-US</dc:language>
  <cp:lastModifiedBy>User</cp:lastModifiedBy>
  <dcterms:modified xsi:type="dcterms:W3CDTF">2010-02-16T11:13:20Z</dcterms:modified>
  <cp:revision>3</cp:revision>
  <dc:subject/>
  <dc:title>Переработка нефти в Казахстане</dc:title>
</cp:coreProperties>
</file>